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03E-65CA-4458-937E-B478B32E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816-2E50-4CB4-B2B2-F4EEDA93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17C-1C04-4F99-9E98-FD775D14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989-0BB6-4A5B-9EF4-FDED57FE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9FBF-A1BD-4264-8CED-C99DB394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626C-48B8-482B-A090-C6A41689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3DAA-D056-4B2A-971E-9E92FB41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6DB8-662C-4EB1-8A9C-C6866466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B90E-DE96-4901-A6D1-C8645A8E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6E87-21B7-4CBC-BA67-CE51968A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6AAD-6D37-4A2D-8A85-058D466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D9D-EDD7-4681-861F-615B83E4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92A5-B208-435A-9439-03111CC9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1ACB-3B7E-4EED-8950-0EECEF27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8508-523A-4619-B538-16B98426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5D7A-A2C2-4A50-A3B8-7BC1B186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FDB2-7A6F-4109-960D-958753E4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093-6496-4C29-AC2A-4D103C19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74E-01D1-4C5B-9043-0DC3C262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455-48E0-4D1E-82D1-F543EBE2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EA9-D329-4D30-A69B-8179A219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CCB-C943-4906-88F7-C746BD4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131-10C2-4EFE-B66D-5DA3C42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AC9-556F-4036-A775-C20186EB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E6A2-F0B0-44BB-B354-AF42E8DB431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5D0C-1F8A-4433-A2C1-148CFB16ED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BDD4-7DB5-4F4A-BB25-DF2C02C694D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D42B-CC26-45A9-A75B-B16C5DBE837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Virtual Design System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9916-0B1B-4180-ACA1-0F5BFE907D6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D60F45B-D9DC-4B55-B96B-5E8F74E1E7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Problem statement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581280"/>
            <a:ext cx="7619760" cy="5335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191120" y="3649680"/>
            <a:ext cx="533160" cy="388800"/>
            <a:chOff x="4191120" y="3649680"/>
            <a:chExt cx="533160" cy="388800"/>
          </a:xfrm>
        </p:grpSpPr>
        <p:sp>
          <p:nvSpPr>
            <p:cNvPr id="100" name=""/>
            <p:cNvSpPr/>
            <p:nvPr/>
          </p:nvSpPr>
          <p:spPr>
            <a:xfrm>
              <a:off x="4191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620120" y="3649680"/>
            <a:ext cx="533160" cy="388800"/>
            <a:chOff x="7620120" y="3649680"/>
            <a:chExt cx="533160" cy="388800"/>
          </a:xfrm>
        </p:grpSpPr>
        <p:sp>
          <p:nvSpPr>
            <p:cNvPr id="103" name=""/>
            <p:cNvSpPr/>
            <p:nvPr/>
          </p:nvSpPr>
          <p:spPr>
            <a:xfrm>
              <a:off x="7620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048120" y="1752480"/>
            <a:ext cx="304776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44375"/>
              <a:gd name="adj5" fmla="val 156736"/>
              <a:gd name="adj6" fmla="val -63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nect between designers and end-users (care-giv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495680"/>
            <a:ext cx="3179880" cy="146556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15078"/>
              <a:gd name="adj5" fmla="val -26912"/>
              <a:gd name="adj6" fmla="val 128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move-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rocess pl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876920"/>
            <a:ext cx="3505320" cy="173988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04300"/>
              <a:gd name="adj5" fmla="val -49625"/>
              <a:gd name="adj6" fmla="val 106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pancy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atient interaction outside of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90720" y="3657600"/>
            <a:ext cx="533160" cy="380880"/>
            <a:chOff x="990720" y="3657600"/>
            <a:chExt cx="533160" cy="380880"/>
          </a:xfrm>
        </p:grpSpPr>
        <p:sp>
          <p:nvSpPr>
            <p:cNvPr id="109" name=""/>
            <p:cNvSpPr/>
            <p:nvPr/>
          </p:nvSpPr>
          <p:spPr>
            <a:xfrm>
              <a:off x="9907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07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91120" y="3657600"/>
            <a:ext cx="533160" cy="380880"/>
            <a:chOff x="4191120" y="3657600"/>
            <a:chExt cx="533160" cy="380880"/>
          </a:xfrm>
        </p:grpSpPr>
        <p:sp>
          <p:nvSpPr>
            <p:cNvPr id="112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620120" y="3657600"/>
            <a:ext cx="533160" cy="380880"/>
            <a:chOff x="7620120" y="3657600"/>
            <a:chExt cx="533160" cy="380880"/>
          </a:xfrm>
        </p:grpSpPr>
        <p:sp>
          <p:nvSpPr>
            <p:cNvPr id="115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20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615-5E58-4C04-A9E4-F6F691D7DE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427BF-D999-4E17-B633-8C2CBB58EE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Principl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778680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hospital desig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ll stak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nvironmental inform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-effe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esign process. VDS seeks to create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c virtual mock-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roposed layouts to allow in-depth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ng in the scenarios of each room for each model will allow users to evaluate which design is opt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5D0-9796-4BC9-B165-74A061E5D8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32C9F-622C-4CFB-B87D-4D5C7DC55F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666633"/>
                </a:solidFill>
                <a:latin typeface="Arial"/>
              </a:rPr>
              <a:t>3.Solution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1189080" cy="168732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20880" y="1924200"/>
            <a:ext cx="1173240" cy="166356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276720" y="1623960"/>
            <a:ext cx="2303280" cy="2021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867280" y="1609560"/>
            <a:ext cx="2301840" cy="2021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3860640"/>
            <a:ext cx="2016360" cy="139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16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3860640"/>
            <a:ext cx="1800360" cy="147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16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3789360"/>
            <a:ext cx="1657440" cy="154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16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4720" y="4292640"/>
            <a:ext cx="187164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240" rIns="21240" tIns="10440" bIns="104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Arial"/>
              </a:rPr>
              <a:t>Design te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design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7080" y="4148280"/>
            <a:ext cx="181908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240" rIns="21240" tIns="10440" bIns="104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Arial"/>
              </a:rPr>
              <a:t>Virtual design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reate an organic virtual mock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9440" y="4148280"/>
            <a:ext cx="14396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240" rIns="21240" tIns="10440" bIns="104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Arial"/>
              </a:rPr>
              <a:t>End-u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aluate designs based on interacting in 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988360" y="4221720"/>
            <a:ext cx="466560" cy="716040"/>
          </a:xfrm>
          <a:prstGeom prst="downArrow">
            <a:avLst>
              <a:gd name="adj1" fmla="val 50000"/>
              <a:gd name="adj2" fmla="val 38368"/>
            </a:avLst>
          </a:prstGeom>
          <a:solidFill>
            <a:srgbClr val="eff0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5" idx="2"/>
            <a:endCxn id="127" idx="2"/>
          </p:cNvCxnSpPr>
          <p:nvPr/>
        </p:nvCxnSpPr>
        <p:spPr>
          <a:xfrm flipH="1" rot="16200000">
            <a:off x="4409640" y="2756160"/>
            <a:ext cx="72360" cy="5077800"/>
          </a:xfrm>
          <a:prstGeom prst="bentConnector3">
            <a:avLst>
              <a:gd name="adj1" fmla="val 1291000"/>
            </a:avLst>
          </a:prstGeom>
          <a:ln w="63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rot="16200000">
            <a:off x="5490360" y="4167720"/>
            <a:ext cx="466560" cy="716040"/>
          </a:xfrm>
          <a:prstGeom prst="downArrow">
            <a:avLst>
              <a:gd name="adj1" fmla="val 50000"/>
              <a:gd name="adj2" fmla="val 38368"/>
            </a:avLst>
          </a:prstGeom>
          <a:solidFill>
            <a:srgbClr val="eff0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5518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edback to desig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541-4E01-4F15-8CB4-43DC655D82B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0B2E9-F810-4291-8999-5362994530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22:05:40Z</dcterms:created>
  <dc:creator>Lu, Yi</dc:creator>
  <dc:description/>
  <dc:language>en-US</dc:language>
  <cp:lastModifiedBy>Lu, Yi</cp:lastModifiedBy>
  <dcterms:modified xsi:type="dcterms:W3CDTF">2007-12-12T20:51:19Z</dcterms:modified>
  <cp:revision>6</cp:revision>
  <dc:subject/>
  <dc:title>Virtual Environment Team</dc:title>
</cp:coreProperties>
</file>